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B6B0-D8ED-4295-88CD-40D39815C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16A8-FBCC-47E3-9D72-D69D03C76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5EF8-20B9-4166-ADF9-E8829600F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F524-4F8A-4894-AB69-C20691C1E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64CB0-B21A-40F0-9492-6A2DC6742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C217E-2897-4893-ACF0-2766411DD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571C3-61F1-4509-B105-262DF4B60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E7CEB-90B7-42EA-92CD-D6EAB03C0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DF6A2-DAF9-415F-AFEB-2034729B8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DDEC1-77D3-4A84-9F9C-6F77AF924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7BD36-BD86-4B6D-977C-78DF3C976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EB50-FC55-41AC-B126-99485E6CF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94E31-68E8-4EF5-85D2-8FC51C7B1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7E929-F646-41E6-9213-625720745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8FC80-0FCF-48B9-8FA9-F85A2038A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31057-3751-4266-8C71-9D69A14CB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8B623-5FD4-48A9-824E-5F9179FA3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26EF-0CB5-40AE-B746-9298E7C22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8166-A929-4E88-91F7-AFCA83936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410B-7CB2-4743-86BD-8800F1624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3671-8942-46D4-B77E-BCE4E7369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C62F-C311-4D5E-9B38-405F4E474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FCAB-6A18-442C-B409-0FFB7C79B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EBCD-A547-47AA-A19F-831993F36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E390C-32E8-445D-A7CB-06D84E91EA7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B2F39-E6F9-42F6-81D7-3D8FCA1227D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09680" y="990720"/>
            <a:ext cx="5486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Verdana"/>
              </a:rPr>
              <a:t>Best Artist:</a:t>
            </a:r>
            <a:br>
              <a:rPr sz="3600"/>
            </a:br>
            <a:r>
              <a:rPr b="1" lang="en-US" sz="3600" spc="-1" strike="noStrike">
                <a:solidFill>
                  <a:srgbClr val="cc0000"/>
                </a:solidFill>
                <a:latin typeface="Verdana"/>
              </a:rPr>
              <a:t>Actress and Singer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e Beyonce Shak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Sylfaen"/>
              </a:rPr>
              <a:t>Today’s music: Sasha Fierc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99"/>
                </a:solidFill>
                <a:latin typeface="Tekton Pro Ext"/>
              </a:rPr>
              <a:t>What’s new with B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99"/>
                </a:solidFill>
                <a:latin typeface="Tekton Pro Ext"/>
              </a:rPr>
              <a:t>How does she keep in shape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99"/>
                </a:solidFill>
                <a:latin typeface="Tekton Pro Ext"/>
              </a:rPr>
              <a:t>What does she do on her free time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99"/>
                </a:solidFill>
                <a:latin typeface="Tekton Pro Ext"/>
              </a:rPr>
              <a:t>How’s her family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3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3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3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3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30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30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9" dur="2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1" dur="2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3" dur="20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5" dur="20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30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30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ff"/>
                </a:solidFill>
                <a:latin typeface="Verdana"/>
              </a:rPr>
              <a:t>She went solo…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3200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3200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Bradley Hand ITC"/>
              </a:rPr>
              <a:t>Say her name, say her name! Beyonce (sounds like ''fiancé'') Knowles, lead singer of the lineup challenged Destiny's Child, has reportedly inked a solo deal with Columbia Record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3200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Bradley Hand ITC"/>
              </a:rPr>
              <a:t>(Columbia declined to comment on the deal.) The reported three album contract, which netted the 19 year old star a $1.5 million advance, comes after months of rumors that Knowles was about to pull a Diana Ross and ditch the group, which has lost three members in the past year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4" dur="5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7" dur="5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c0000"/>
                </a:solidFill>
                <a:latin typeface="Verdana"/>
              </a:rPr>
              <a:t>Keeping in shape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417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MINUTE ONE: BASIC CRUNCHES</a:t>
            </a:r>
            <a:br>
              <a:rPr sz="1400"/>
            </a:b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MINUTE TWO: BICYCLE CRUNCHES</a:t>
            </a:r>
            <a:br>
              <a:rPr sz="1400"/>
            </a:b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Lie on floor, legs extended at a 45-degree angle. Bring bent left knee toward chest, reaching right elbow toward it. Alternate right and left knees. </a:t>
            </a:r>
            <a:br>
              <a:rPr sz="1400"/>
            </a:b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MINUTE 3: REST</a:t>
            </a:r>
            <a:br>
              <a:rPr sz="1400"/>
            </a:b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MINUTE 4: LEFT TWISTS</a:t>
            </a:r>
            <a:br>
              <a:rPr sz="1400"/>
            </a:b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Lie on back, knees bent, hands behind head, elbows out. With feet on floor, curl up, aiming right shoulder at left knee. </a:t>
            </a:r>
            <a:br>
              <a:rPr sz="1400"/>
            </a:b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MINUTE 5: RIGHT TWISTS</a:t>
            </a:r>
            <a:br>
              <a:rPr sz="1400"/>
            </a:b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MINUTE 6: REST</a:t>
            </a:r>
            <a:br>
              <a:rPr sz="1400"/>
            </a:b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MINUTE 7: PLANKS</a:t>
            </a:r>
            <a:br>
              <a:rPr sz="1400"/>
            </a:b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Lie facedown. Support your weight on toes and forearms. Keep elbows directly beneath shoulders and body straight.</a:t>
            </a:r>
            <a:br>
              <a:rPr sz="1400"/>
            </a:b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MINUTE 8: REST</a:t>
            </a:r>
            <a:br>
              <a:rPr sz="1400"/>
            </a:b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MINUTE 9: PLANKS</a:t>
            </a:r>
            <a:br>
              <a:rPr sz="1400"/>
            </a:b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MINUTE 10: REST</a:t>
            </a:r>
            <a:br>
              <a:rPr sz="1400"/>
            </a:b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MINUTES 11 and 12: CAPTAIN'S CHAIR</a:t>
            </a:r>
            <a:br>
              <a:rPr sz="1400"/>
            </a:b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Do 3 sets of 20 at a gym. Grip handholds and press lower back into pad, letting legs hang. Slowly lift bent knees to chest.</a:t>
            </a:r>
            <a:br>
              <a:rPr sz="1400"/>
            </a:br>
            <a:br>
              <a:rPr sz="1400"/>
            </a:br>
            <a:br>
              <a:rPr sz="1400"/>
            </a:b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She also does the following:</a:t>
            </a:r>
            <a:br>
              <a:rPr sz="1400"/>
            </a:b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Every day except Sunday, she does a 4 mile, 40 minute jog. After a warm-up, she increases the treadmill incline to 2 percent and switches the speed from 6.0 mph to 7.5 mph and back every 30 seconds. </a:t>
            </a:r>
            <a:br>
              <a:rPr sz="1400"/>
            </a:b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After the treadmill comes a 20 minute dumbell session.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3" dur="2000" fill="hold"/>
                                        <p:tgtEl>
                                          <p:spTgt spid="9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Free Tim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600200" y="2819160"/>
            <a:ext cx="586728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Beyonce’ Knowels is a regular everyday person who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works hard to not be in the spot light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7267680" y="4038480"/>
            <a:ext cx="1876320" cy="28195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0" y="1676520"/>
            <a:ext cx="1828800" cy="27432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0" y="4905360"/>
            <a:ext cx="2895480" cy="19526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>
            <a:off x="7010280" y="1600200"/>
            <a:ext cx="21337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6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9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.33295 E">
                                      <p:cBhvr>
                                        <p:cTn id="89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path" presetID="1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983 -0.13295 C 0.05087 -0.08763 0.06077 -0.04648 0.07778 -0.01966 C 0.07778 -0.0185 0.10486 0.01757 0.10486 0.01618 C 0.1198 0.0363 0.12882 0.06428 0.12882 0.09341 C 0.12882 0.15214 0.09375 0.19861 0.04983 0.2 C 0.00591 0.19861 -0.02916 0.15214 -0.02916 0.09341 C -0.02916 0.06428 -0.02014 0.0363 -0.0052 0.01618 C -0.0052 0.01757 0.02188 -0.0185 0.02188 -0.01966 C 0.03889 -0.04648 0.04879 -0.08763 0.04983 -0.13295 Z">
                                      <p:cBhvr>
                                        <p:cTn id="93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Famil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980720" y="1752480"/>
            <a:ext cx="7162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40860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orte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Forte"/>
              </a:rPr>
              <a:t>The marriage license has been filed – as PEOPLE first reported last month – but Kelly Rowland is still playing coy when it comes to Beyoncé Knowles's hush-hush wedding to Jay-Z.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Forte"/>
              </a:rPr>
              <a:t>The singer – a founding member of Destiny's Child – was in London Wednesday night at the LG Scarlet TV launch party promoting her remix album, </a:t>
            </a:r>
            <a:r>
              <a:rPr b="0" i="1" lang="en-US" sz="2000" spc="-1" strike="noStrike">
                <a:solidFill>
                  <a:srgbClr val="000000"/>
                </a:solidFill>
                <a:latin typeface="Forte"/>
              </a:rPr>
              <a:t>Miss Kelly: Diva Deluxe</a:t>
            </a:r>
            <a:r>
              <a:rPr b="0" lang="en-US" sz="2000" spc="-1" strike="noStrike">
                <a:solidFill>
                  <a:srgbClr val="000000"/>
                </a:solidFill>
                <a:latin typeface="Forte"/>
              </a:rPr>
              <a:t>.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Forte"/>
              </a:rPr>
              <a:t>But she could not be tempted to discuss her BFF's April 4 wedding, which she attended.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Forte"/>
              </a:rPr>
              <a:t>"I just spoke to Beyoncé last night, and she is very happy," Rowland – who is already hard at work on her third solo album – told PEOPLE at the LG Scarlet TV launch party.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Forte"/>
              </a:rPr>
              <a:t>So married life is treating Knowles well? "How do you know there's been a wedding?" she replied playfully. "This is something you need to ask Beyoncé and Jay."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0" y="1981080"/>
            <a:ext cx="256716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3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2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2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8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8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N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3047760"/>
            <a:ext cx="76201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O! This is not the end of Beyonce’ formally known as Sasha Fierce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he is also hoping to one day reunite and make another album with the group that started her off with stardom, Destiny’s Child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6781680" y="0"/>
            <a:ext cx="2362320" cy="19810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057400" cy="19810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0" y="4952880"/>
            <a:ext cx="1371600" cy="19051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>
            <a:off x="7772400" y="4800600"/>
            <a:ext cx="13716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1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0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9T16:37:55Z</dcterms:created>
  <dc:creator>762703</dc:creator>
  <dc:description/>
  <dc:language>en-US</dc:language>
  <cp:lastModifiedBy>762703</cp:lastModifiedBy>
  <dcterms:modified xsi:type="dcterms:W3CDTF">2008-12-12T16:53:25Z</dcterms:modified>
  <cp:revision>4</cp:revision>
  <dc:subject/>
  <dc:title>Best Artist: Actress and Singer</dc:title>
</cp:coreProperties>
</file>